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A9A-FE58-4B8B-99E1-4AF53122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6A4-30DC-4A81-890F-769E468D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1EC-40F7-415E-B7B4-D2300C42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0E2-FE58-404D-B0B3-27D30831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5D0-8498-4A66-B2A4-F08036C2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7AB-1300-412E-86A8-3158BCE5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4F1-F785-42A8-B9F8-98D81D27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5EC-63AE-4F52-9531-03408DEE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F5F-8003-4CD9-836A-9C669C9D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C8D-620A-44C7-9478-0DB1A216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FDB-7C4D-456C-ACAB-49A4A84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F29-634E-496A-8A63-53B0C97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54D6-7AAB-47C3-9892-AB9F7B2C5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1600200"/>
            <a:ext cx="7467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Get out your worksheets from yesterday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be ready to ask an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2590920" y="1981080"/>
            <a:ext cx="3886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ASSIGNMENT</a:t>
            </a:r>
            <a:endParaRPr b="0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pg. 34</a:t>
            </a:r>
            <a:endParaRPr b="0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12-38 evens</a:t>
            </a:r>
            <a:endParaRPr b="0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pic>
        <p:nvPicPr>
          <p:cNvPr id="253" name="Picture 5" descr="MCj04123900000[1]"/>
          <p:cNvPicPr/>
          <p:nvPr/>
        </p:nvPicPr>
        <p:blipFill>
          <a:blip r:embed="rId1"/>
          <a:stretch/>
        </p:blipFill>
        <p:spPr>
          <a:xfrm>
            <a:off x="6553080" y="4419720"/>
            <a:ext cx="2217960" cy="1901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MCj04123960000[1]"/>
          <p:cNvPicPr/>
          <p:nvPr/>
        </p:nvPicPr>
        <p:blipFill>
          <a:blip r:embed="rId2"/>
          <a:stretch/>
        </p:blipFill>
        <p:spPr>
          <a:xfrm>
            <a:off x="228600" y="228600"/>
            <a:ext cx="2362320" cy="2023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MCj04123980000[1]"/>
          <p:cNvPicPr/>
          <p:nvPr/>
        </p:nvPicPr>
        <p:blipFill>
          <a:blip r:embed="rId3"/>
          <a:stretch/>
        </p:blipFill>
        <p:spPr>
          <a:xfrm>
            <a:off x="304920" y="4800600"/>
            <a:ext cx="2422440" cy="1623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MCj04348100000[1]"/>
          <p:cNvPicPr/>
          <p:nvPr/>
        </p:nvPicPr>
        <p:blipFill>
          <a:blip r:embed="rId4"/>
          <a:stretch/>
        </p:blipFill>
        <p:spPr>
          <a:xfrm>
            <a:off x="6934320" y="457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j0233966"/>
          <p:cNvPicPr/>
          <p:nvPr/>
        </p:nvPicPr>
        <p:blipFill>
          <a:blip r:embed="rId1"/>
          <a:stretch/>
        </p:blipFill>
        <p:spPr>
          <a:xfrm rot="19734000">
            <a:off x="2742840" y="1447560"/>
            <a:ext cx="6400800" cy="5209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228600" y="571680"/>
            <a:ext cx="506736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Section 1-4:</a:t>
            </a:r>
            <a:endParaRPr b="0" lang="en-US" sz="5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Angle Measure</a:t>
            </a:r>
            <a:endParaRPr b="0" lang="en-US" sz="5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752400" y="609480"/>
            <a:ext cx="1381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Ray</a:t>
            </a:r>
            <a:endParaRPr b="0" lang="en-US" sz="4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sp>
        <p:nvSpPr>
          <p:cNvPr id="45" name="Line 5"/>
          <p:cNvSpPr/>
          <p:nvPr/>
        </p:nvSpPr>
        <p:spPr>
          <a:xfrm>
            <a:off x="990720" y="219564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D10301_"/>
          <p:cNvPicPr/>
          <p:nvPr/>
        </p:nvPicPr>
        <p:blipFill>
          <a:blip r:embed="rId1"/>
          <a:stretch/>
        </p:blipFill>
        <p:spPr>
          <a:xfrm>
            <a:off x="2286000" y="20764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BD10301_"/>
          <p:cNvPicPr/>
          <p:nvPr/>
        </p:nvPicPr>
        <p:blipFill>
          <a:blip r:embed="rId2"/>
          <a:stretch/>
        </p:blipFill>
        <p:spPr>
          <a:xfrm>
            <a:off x="3676680" y="207180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838080" y="1585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209680" y="1585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581280" y="1585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2120" y="24224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one endpoint and extends forever in the other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685800" y="3276720"/>
            <a:ext cx="381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Opposite rays</a:t>
            </a:r>
            <a:endParaRPr b="0" lang="en-US" sz="4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838080" y="4995720"/>
            <a:ext cx="5181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BD10301_"/>
          <p:cNvPicPr/>
          <p:nvPr/>
        </p:nvPicPr>
        <p:blipFill>
          <a:blip r:embed="rId3"/>
          <a:stretch/>
        </p:blipFill>
        <p:spPr>
          <a:xfrm>
            <a:off x="3600360" y="48769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BD10301_"/>
          <p:cNvPicPr/>
          <p:nvPr/>
        </p:nvPicPr>
        <p:blipFill>
          <a:blip r:embed="rId4"/>
          <a:stretch/>
        </p:blipFill>
        <p:spPr>
          <a:xfrm>
            <a:off x="1695600" y="48909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D10301_"/>
          <p:cNvPicPr/>
          <p:nvPr/>
        </p:nvPicPr>
        <p:blipFill>
          <a:blip r:embed="rId5"/>
          <a:stretch/>
        </p:blipFill>
        <p:spPr>
          <a:xfrm>
            <a:off x="4667400" y="487692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160020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50532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4600440" y="4357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762120" y="539424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an endpoint and continue in opposite dir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posite rays are col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523800" y="685800"/>
            <a:ext cx="1838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Angles</a:t>
            </a:r>
            <a:endParaRPr b="0" lang="en-US" sz="4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60020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created by 2 non-collinear rays that have a common end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made up of sides and a vert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4724280" y="3123720"/>
            <a:ext cx="213372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4724280" y="4876920"/>
            <a:ext cx="24386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BD10301_"/>
          <p:cNvPicPr/>
          <p:nvPr/>
        </p:nvPicPr>
        <p:blipFill>
          <a:blip r:embed="rId1"/>
          <a:stretch/>
        </p:blipFill>
        <p:spPr>
          <a:xfrm>
            <a:off x="4667400" y="47433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BD10301_"/>
          <p:cNvPicPr/>
          <p:nvPr/>
        </p:nvPicPr>
        <p:blipFill>
          <a:blip r:embed="rId2"/>
          <a:stretch/>
        </p:blipFill>
        <p:spPr>
          <a:xfrm>
            <a:off x="6114960" y="35244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D10301_"/>
          <p:cNvPicPr/>
          <p:nvPr/>
        </p:nvPicPr>
        <p:blipFill>
          <a:blip r:embed="rId3"/>
          <a:stretch/>
        </p:blipFill>
        <p:spPr>
          <a:xfrm>
            <a:off x="6419880" y="545292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4343400" y="4710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324480" y="3519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400800" y="5119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952880" y="46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96252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3962520" y="5805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752480" y="4710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4052880" y="3048120"/>
            <a:ext cx="1066680" cy="609480"/>
          </a:xfrm>
          <a:prstGeom prst="flowChartAlternateProcess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4052880" y="5638680"/>
            <a:ext cx="1066680" cy="609840"/>
          </a:xfrm>
          <a:prstGeom prst="flowChartAlternateProcess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4724280" y="3200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4724280" y="5791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6"/>
          <p:cNvSpPr/>
          <p:nvPr/>
        </p:nvSpPr>
        <p:spPr>
          <a:xfrm>
            <a:off x="1876320" y="4572000"/>
            <a:ext cx="1067040" cy="609480"/>
          </a:xfrm>
          <a:prstGeom prst="flowChartAlternateProcess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4800600" y="36576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 flipV="1">
            <a:off x="5105520" y="5410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29718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523800" y="685800"/>
            <a:ext cx="2828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Baby Kruffy"/>
              </a:rPr>
              <a:t>Angles CONT'D</a:t>
            </a:r>
            <a:endParaRPr b="0" lang="en-US" sz="4400" spc="1" strike="noStrike">
              <a:ln w="316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Baby Kruffy"/>
              <a:ea typeface="Baby Kruffy"/>
            </a:endParaRPr>
          </a:p>
        </p:txBody>
      </p:sp>
      <p:sp>
        <p:nvSpPr>
          <p:cNvPr id="84" name="Line 5"/>
          <p:cNvSpPr/>
          <p:nvPr/>
        </p:nvSpPr>
        <p:spPr>
          <a:xfrm>
            <a:off x="6019920" y="2971800"/>
            <a:ext cx="1447560" cy="2819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762120" y="32767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2286000" y="251424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H="1" flipV="1">
            <a:off x="1066320" y="259056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1828800" y="304812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8" h="144">
                <a:moveTo>
                  <a:pt x="48" y="0"/>
                </a:moveTo>
                <a:cubicBezTo>
                  <a:pt x="24" y="36"/>
                  <a:pt x="0" y="72"/>
                  <a:pt x="0" y="96"/>
                </a:cubicBezTo>
                <a:cubicBezTo>
                  <a:pt x="0" y="120"/>
                  <a:pt x="24" y="132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3"/>
          <p:cNvSpPr/>
          <p:nvPr/>
        </p:nvSpPr>
        <p:spPr>
          <a:xfrm>
            <a:off x="2590920" y="3062160"/>
            <a:ext cx="75960" cy="228600"/>
          </a:xfrm>
          <a:custGeom>
            <a:avLst/>
            <a:gdLst>
              <a:gd name="textAreaLeft" fmla="*/ 0 w 75960"/>
              <a:gd name="textAreaRight" fmla="*/ 76320 w 75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8" h="144">
                <a:moveTo>
                  <a:pt x="0" y="0"/>
                </a:moveTo>
                <a:cubicBezTo>
                  <a:pt x="24" y="36"/>
                  <a:pt x="48" y="72"/>
                  <a:pt x="48" y="96"/>
                </a:cubicBezTo>
                <a:cubicBezTo>
                  <a:pt x="48" y="120"/>
                  <a:pt x="24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858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ruent 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ve the same measu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334120" y="129528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le Bi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ray that divides an angle into 2 congruent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7467480" y="2895480"/>
            <a:ext cx="53352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 flipV="1">
            <a:off x="4952520" y="4724280"/>
            <a:ext cx="2514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6692760" y="5029200"/>
            <a:ext cx="393840" cy="457200"/>
          </a:xfrm>
          <a:custGeom>
            <a:avLst/>
            <a:gdLst>
              <a:gd name="textAreaLeft" fmla="*/ 0 w 393840"/>
              <a:gd name="textAreaRight" fmla="*/ 394200 w 3938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48" h="288">
                <a:moveTo>
                  <a:pt x="8" y="288"/>
                </a:moveTo>
                <a:cubicBezTo>
                  <a:pt x="4" y="236"/>
                  <a:pt x="0" y="184"/>
                  <a:pt x="8" y="144"/>
                </a:cubicBezTo>
                <a:cubicBezTo>
                  <a:pt x="16" y="104"/>
                  <a:pt x="16" y="72"/>
                  <a:pt x="56" y="48"/>
                </a:cubicBezTo>
                <a:cubicBezTo>
                  <a:pt x="96" y="24"/>
                  <a:pt x="216" y="8"/>
                  <a:pt x="2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0"/>
          <p:cNvSpPr/>
          <p:nvPr/>
        </p:nvSpPr>
        <p:spPr>
          <a:xfrm>
            <a:off x="7162920" y="5029200"/>
            <a:ext cx="380880" cy="152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40" h="96">
                <a:moveTo>
                  <a:pt x="0" y="96"/>
                </a:moveTo>
                <a:cubicBezTo>
                  <a:pt x="52" y="48"/>
                  <a:pt x="104" y="0"/>
                  <a:pt x="144" y="0"/>
                </a:cubicBezTo>
                <a:cubicBezTo>
                  <a:pt x="184" y="0"/>
                  <a:pt x="212" y="48"/>
                  <a:pt x="24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4"/>
          <p:cNvSpPr/>
          <p:nvPr/>
        </p:nvSpPr>
        <p:spPr>
          <a:xfrm>
            <a:off x="609480" y="1828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1447920" y="1828800"/>
            <a:ext cx="9144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362320" y="182880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BD10301_"/>
          <p:cNvPicPr/>
          <p:nvPr/>
        </p:nvPicPr>
        <p:blipFill>
          <a:blip r:embed="rId1"/>
          <a:stretch/>
        </p:blipFill>
        <p:spPr>
          <a:xfrm>
            <a:off x="2252520" y="17096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D10301_"/>
          <p:cNvPicPr/>
          <p:nvPr/>
        </p:nvPicPr>
        <p:blipFill>
          <a:blip r:embed="rId2"/>
          <a:stretch/>
        </p:blipFill>
        <p:spPr>
          <a:xfrm>
            <a:off x="3581280" y="17240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D10301_"/>
          <p:cNvPicPr/>
          <p:nvPr/>
        </p:nvPicPr>
        <p:blipFill>
          <a:blip r:embed="rId3"/>
          <a:stretch/>
        </p:blipFill>
        <p:spPr>
          <a:xfrm>
            <a:off x="990720" y="17096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BD10301_"/>
          <p:cNvPicPr/>
          <p:nvPr/>
        </p:nvPicPr>
        <p:blipFill>
          <a:blip r:embed="rId4"/>
          <a:stretch/>
        </p:blipFill>
        <p:spPr>
          <a:xfrm>
            <a:off x="6534000" y="2776680"/>
            <a:ext cx="209880" cy="209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BD10301_"/>
          <p:cNvPicPr/>
          <p:nvPr/>
        </p:nvPicPr>
        <p:blipFill>
          <a:blip r:embed="rId5"/>
          <a:stretch/>
        </p:blipFill>
        <p:spPr>
          <a:xfrm>
            <a:off x="2895480" y="24382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BD10301_"/>
          <p:cNvPicPr/>
          <p:nvPr/>
        </p:nvPicPr>
        <p:blipFill>
          <a:blip r:embed="rId6"/>
          <a:stretch/>
        </p:blipFill>
        <p:spPr>
          <a:xfrm>
            <a:off x="1709640" y="24382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914400" y="13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181240" y="13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505320" y="13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371600" y="2376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048120" y="2376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09680" y="1981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59092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1828800" y="18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609480" y="372888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ll angles that have R as a vert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Name the sides of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29718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V="1">
            <a:off x="2971800" y="48765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295280" y="533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562720" y="533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6629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 flipV="1">
            <a:off x="5334120" y="2209320"/>
            <a:ext cx="1295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 flipH="1" flipV="1">
            <a:off x="5943240" y="1600200"/>
            <a:ext cx="6858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9"/>
          <p:cNvSpPr/>
          <p:nvPr/>
        </p:nvSpPr>
        <p:spPr>
          <a:xfrm flipV="1">
            <a:off x="6629400" y="1447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6629400" y="266688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1" descr="BD10301_"/>
          <p:cNvPicPr/>
          <p:nvPr/>
        </p:nvPicPr>
        <p:blipFill>
          <a:blip r:embed="rId7"/>
          <a:stretch/>
        </p:blipFill>
        <p:spPr>
          <a:xfrm>
            <a:off x="6539040" y="175248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2" descr="BD10301_"/>
          <p:cNvPicPr/>
          <p:nvPr/>
        </p:nvPicPr>
        <p:blipFill>
          <a:blip r:embed="rId8"/>
          <a:stretch/>
        </p:blipFill>
        <p:spPr>
          <a:xfrm>
            <a:off x="7543800" y="27907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3" descr="BD10301_"/>
          <p:cNvPicPr/>
          <p:nvPr/>
        </p:nvPicPr>
        <p:blipFill>
          <a:blip r:embed="rId9"/>
          <a:stretch/>
        </p:blipFill>
        <p:spPr>
          <a:xfrm>
            <a:off x="5619600" y="2314440"/>
            <a:ext cx="20988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4" descr="BD10301_"/>
          <p:cNvPicPr/>
          <p:nvPr/>
        </p:nvPicPr>
        <p:blipFill>
          <a:blip r:embed="rId10"/>
          <a:stretch/>
        </p:blipFill>
        <p:spPr>
          <a:xfrm>
            <a:off x="6019920" y="184320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5"/>
          <p:cNvSpPr/>
          <p:nvPr/>
        </p:nvSpPr>
        <p:spPr>
          <a:xfrm>
            <a:off x="64771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6705720" y="1690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5715000" y="18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54100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74674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4952880" y="3805200"/>
            <a:ext cx="3886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each angle as right, acute or obt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1"/>
          <p:cNvSpPr/>
          <p:nvPr/>
        </p:nvSpPr>
        <p:spPr>
          <a:xfrm>
            <a:off x="5286240" y="47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 flipV="1">
            <a:off x="5286240" y="4509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5272200" y="5153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4"/>
          <p:cNvSpPr/>
          <p:nvPr/>
        </p:nvSpPr>
        <p:spPr>
          <a:xfrm flipV="1">
            <a:off x="5272200" y="49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5"/>
          <p:cNvSpPr/>
          <p:nvPr/>
        </p:nvSpPr>
        <p:spPr>
          <a:xfrm>
            <a:off x="52578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6"/>
          <p:cNvSpPr/>
          <p:nvPr/>
        </p:nvSpPr>
        <p:spPr>
          <a:xfrm flipV="1">
            <a:off x="5257800" y="5333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09480" y="533520"/>
            <a:ext cx="44960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 to the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vertex of     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sides of       BD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nother name for       D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04812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 flipV="1">
            <a:off x="3048120" y="1066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3033720" y="2085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033720" y="185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567240" y="29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3567240" y="2695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 flipV="1">
            <a:off x="5410080" y="851400"/>
            <a:ext cx="2971800" cy="1676520"/>
          </a:xfrm>
          <a:custGeom>
            <a:avLst/>
            <a:gdLst>
              <a:gd name="textAreaLeft" fmla="*/ 619200 w 2971800"/>
              <a:gd name="textAreaRight" fmla="*/ 2352960 w 2971800"/>
              <a:gd name="textAreaTop" fmla="*/ 349200 h 1676520"/>
              <a:gd name="textAreaBottom" fmla="*/ 13273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5410080" y="852120"/>
            <a:ext cx="221004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791320" y="561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8381880" y="2286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620120" y="547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1055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638680" y="1857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010280" y="8240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2147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391520" y="928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1600200" y="5562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1600200" y="4343040"/>
            <a:ext cx="8380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H="1" flipV="1">
            <a:off x="914040" y="4266720"/>
            <a:ext cx="6858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1600200" y="41148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600200" y="533412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6" descr="BD10301_"/>
          <p:cNvPicPr/>
          <p:nvPr/>
        </p:nvPicPr>
        <p:blipFill>
          <a:blip r:embed="rId1"/>
          <a:stretch/>
        </p:blipFill>
        <p:spPr>
          <a:xfrm>
            <a:off x="1509840" y="441972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BD10301_"/>
          <p:cNvPicPr/>
          <p:nvPr/>
        </p:nvPicPr>
        <p:blipFill>
          <a:blip r:embed="rId2"/>
          <a:stretch/>
        </p:blipFill>
        <p:spPr>
          <a:xfrm>
            <a:off x="2514600" y="54579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BD10301_"/>
          <p:cNvPicPr/>
          <p:nvPr/>
        </p:nvPicPr>
        <p:blipFill>
          <a:blip r:embed="rId3"/>
          <a:stretch/>
        </p:blipFill>
        <p:spPr>
          <a:xfrm>
            <a:off x="2076480" y="45720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9" descr="BD10301_"/>
          <p:cNvPicPr/>
          <p:nvPr/>
        </p:nvPicPr>
        <p:blipFill>
          <a:blip r:embed="rId4"/>
          <a:stretch/>
        </p:blipFill>
        <p:spPr>
          <a:xfrm>
            <a:off x="990720" y="45100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0"/>
          <p:cNvSpPr/>
          <p:nvPr/>
        </p:nvSpPr>
        <p:spPr>
          <a:xfrm>
            <a:off x="144792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167652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68580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21337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24382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4419720" y="3429000"/>
            <a:ext cx="449568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each angle as right, acute or obt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0"/>
          <p:cNvSpPr/>
          <p:nvPr/>
        </p:nvSpPr>
        <p:spPr>
          <a:xfrm>
            <a:off x="4753080" y="454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1"/>
          <p:cNvSpPr/>
          <p:nvPr/>
        </p:nvSpPr>
        <p:spPr>
          <a:xfrm flipV="1">
            <a:off x="4753080" y="4314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2"/>
          <p:cNvSpPr/>
          <p:nvPr/>
        </p:nvSpPr>
        <p:spPr>
          <a:xfrm>
            <a:off x="4757760" y="5381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3"/>
          <p:cNvSpPr/>
          <p:nvPr/>
        </p:nvSpPr>
        <p:spPr>
          <a:xfrm flipV="1">
            <a:off x="4757760" y="51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4"/>
          <p:cNvSpPr/>
          <p:nvPr/>
        </p:nvSpPr>
        <p:spPr>
          <a:xfrm>
            <a:off x="4748040" y="6200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5"/>
          <p:cNvSpPr/>
          <p:nvPr/>
        </p:nvSpPr>
        <p:spPr>
          <a:xfrm flipV="1">
            <a:off x="4748040" y="5971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6"/>
          <p:cNvSpPr/>
          <p:nvPr/>
        </p:nvSpPr>
        <p:spPr>
          <a:xfrm>
            <a:off x="228600" y="3068640"/>
            <a:ext cx="8610480" cy="558720"/>
          </a:xfrm>
          <a:custGeom>
            <a:avLst/>
            <a:gdLst>
              <a:gd name="textAreaLeft" fmla="*/ 0 w 8610480"/>
              <a:gd name="textAreaRight" fmla="*/ 8610840 w 86104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5424" h="352">
                <a:moveTo>
                  <a:pt x="0" y="104"/>
                </a:moveTo>
                <a:cubicBezTo>
                  <a:pt x="4" y="204"/>
                  <a:pt x="8" y="304"/>
                  <a:pt x="96" y="296"/>
                </a:cubicBezTo>
                <a:cubicBezTo>
                  <a:pt x="184" y="288"/>
                  <a:pt x="360" y="56"/>
                  <a:pt x="528" y="56"/>
                </a:cubicBezTo>
                <a:cubicBezTo>
                  <a:pt x="696" y="56"/>
                  <a:pt x="976" y="280"/>
                  <a:pt x="1104" y="296"/>
                </a:cubicBezTo>
                <a:cubicBezTo>
                  <a:pt x="1232" y="312"/>
                  <a:pt x="1240" y="152"/>
                  <a:pt x="1296" y="152"/>
                </a:cubicBezTo>
                <a:cubicBezTo>
                  <a:pt x="1352" y="152"/>
                  <a:pt x="1304" y="320"/>
                  <a:pt x="1440" y="296"/>
                </a:cubicBezTo>
                <a:cubicBezTo>
                  <a:pt x="1576" y="272"/>
                  <a:pt x="1928" y="0"/>
                  <a:pt x="2112" y="8"/>
                </a:cubicBezTo>
                <a:cubicBezTo>
                  <a:pt x="2296" y="16"/>
                  <a:pt x="2432" y="336"/>
                  <a:pt x="2544" y="344"/>
                </a:cubicBezTo>
                <a:cubicBezTo>
                  <a:pt x="2656" y="352"/>
                  <a:pt x="2672" y="72"/>
                  <a:pt x="2784" y="56"/>
                </a:cubicBezTo>
                <a:cubicBezTo>
                  <a:pt x="2896" y="40"/>
                  <a:pt x="3136" y="232"/>
                  <a:pt x="3216" y="248"/>
                </a:cubicBezTo>
                <a:cubicBezTo>
                  <a:pt x="3296" y="264"/>
                  <a:pt x="3152" y="176"/>
                  <a:pt x="3264" y="152"/>
                </a:cubicBezTo>
                <a:cubicBezTo>
                  <a:pt x="3376" y="128"/>
                  <a:pt x="3784" y="96"/>
                  <a:pt x="3888" y="104"/>
                </a:cubicBezTo>
                <a:cubicBezTo>
                  <a:pt x="3992" y="112"/>
                  <a:pt x="3784" y="216"/>
                  <a:pt x="3888" y="200"/>
                </a:cubicBezTo>
                <a:cubicBezTo>
                  <a:pt x="3992" y="184"/>
                  <a:pt x="4360" y="8"/>
                  <a:pt x="4512" y="8"/>
                </a:cubicBezTo>
                <a:cubicBezTo>
                  <a:pt x="4664" y="8"/>
                  <a:pt x="4664" y="192"/>
                  <a:pt x="4800" y="200"/>
                </a:cubicBezTo>
                <a:cubicBezTo>
                  <a:pt x="4936" y="208"/>
                  <a:pt x="5232" y="32"/>
                  <a:pt x="5328" y="56"/>
                </a:cubicBezTo>
                <a:cubicBezTo>
                  <a:pt x="5424" y="80"/>
                  <a:pt x="5400" y="212"/>
                  <a:pt x="5376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609480" y="1295280"/>
            <a:ext cx="8001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S bisects    PQT, and QP and QR are opposite r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  PQT = 60 and m     PQS = 4x + 14, find the value of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 PQS = 3x + 13 and m     SQT = 6x – 2, find m     PQ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53376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3533760" y="1828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52388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523880" y="18284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6419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6419880" y="2666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399096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3990960" y="2666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4479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1447920" y="2666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700200" y="13287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067280" y="133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5214960" y="133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2395440" y="1614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2395440" y="138564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990720" y="5867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 flipH="1" flipV="1">
            <a:off x="3048120" y="3047760"/>
            <a:ext cx="1295280" cy="281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1600200" y="4114800"/>
            <a:ext cx="274320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5" descr="BD10301_"/>
          <p:cNvPicPr/>
          <p:nvPr/>
        </p:nvPicPr>
        <p:blipFill>
          <a:blip r:embed="rId1"/>
          <a:stretch/>
        </p:blipFill>
        <p:spPr>
          <a:xfrm>
            <a:off x="3171960" y="34290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BD10301_"/>
          <p:cNvPicPr/>
          <p:nvPr/>
        </p:nvPicPr>
        <p:blipFill>
          <a:blip r:embed="rId2"/>
          <a:stretch/>
        </p:blipFill>
        <p:spPr>
          <a:xfrm>
            <a:off x="2057400" y="43718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BD10301_"/>
          <p:cNvPicPr/>
          <p:nvPr/>
        </p:nvPicPr>
        <p:blipFill>
          <a:blip r:embed="rId3"/>
          <a:stretch/>
        </p:blipFill>
        <p:spPr>
          <a:xfrm>
            <a:off x="1619280" y="57675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" descr="BD10301_"/>
          <p:cNvPicPr/>
          <p:nvPr/>
        </p:nvPicPr>
        <p:blipFill>
          <a:blip r:embed="rId4"/>
          <a:stretch/>
        </p:blipFill>
        <p:spPr>
          <a:xfrm>
            <a:off x="4210200" y="57578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9" descr="BD10301_"/>
          <p:cNvPicPr/>
          <p:nvPr/>
        </p:nvPicPr>
        <p:blipFill>
          <a:blip r:embed="rId5"/>
          <a:stretch/>
        </p:blipFill>
        <p:spPr>
          <a:xfrm>
            <a:off x="7010280" y="575784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0"/>
          <p:cNvSpPr/>
          <p:nvPr/>
        </p:nvSpPr>
        <p:spPr>
          <a:xfrm>
            <a:off x="1981080" y="4038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3276720" y="31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1447920" y="6033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4114800" y="5958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010280" y="60339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6"/>
          <p:cNvSpPr/>
          <p:nvPr/>
        </p:nvSpPr>
        <p:spPr>
          <a:xfrm>
            <a:off x="609480" y="533520"/>
            <a:ext cx="80010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 and BC are opposite rays, BF bisects      CBE, and BD bisects      A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EBF = 6x + 4 and m    CBF = 7x – 2, find m     E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1 = 4x + 10 and m     2 = 5x, find m    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    2 = 6y + 2 and m    1 = 8y – 14, find m     A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    DBF a right angle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819520" y="1219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 flipV="1">
            <a:off x="2819520" y="99036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5257800" y="2471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 flipV="1">
            <a:off x="5257800" y="2242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3581280" y="248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V="1">
            <a:off x="3581280" y="22521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461960" y="248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1461960" y="22521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700200" y="5666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1905120" y="576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029200" y="5763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6858000" y="8524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 flipV="1">
            <a:off x="6858000" y="62352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1052640" y="961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>
            <a:off x="1447920" y="3305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 flipV="1">
            <a:off x="1447920" y="307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12952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1295280" y="3885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7"/>
          <p:cNvSpPr/>
          <p:nvPr/>
        </p:nvSpPr>
        <p:spPr>
          <a:xfrm>
            <a:off x="3429000" y="3305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8"/>
          <p:cNvSpPr/>
          <p:nvPr/>
        </p:nvSpPr>
        <p:spPr>
          <a:xfrm flipV="1">
            <a:off x="3429000" y="307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9"/>
          <p:cNvSpPr/>
          <p:nvPr/>
        </p:nvSpPr>
        <p:spPr>
          <a:xfrm>
            <a:off x="5533920" y="3324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 flipV="1">
            <a:off x="5533920" y="3095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6095880" y="164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2"/>
          <p:cNvSpPr/>
          <p:nvPr/>
        </p:nvSpPr>
        <p:spPr>
          <a:xfrm flipV="1">
            <a:off x="6095880" y="14187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3"/>
          <p:cNvSpPr/>
          <p:nvPr/>
        </p:nvSpPr>
        <p:spPr>
          <a:xfrm>
            <a:off x="990720" y="6095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 flipV="1">
            <a:off x="4343400" y="4647960"/>
            <a:ext cx="243828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5"/>
          <p:cNvSpPr/>
          <p:nvPr/>
        </p:nvSpPr>
        <p:spPr>
          <a:xfrm flipV="1">
            <a:off x="4343400" y="3886200"/>
            <a:ext cx="60948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6" descr="BD10301_"/>
          <p:cNvPicPr/>
          <p:nvPr/>
        </p:nvPicPr>
        <p:blipFill>
          <a:blip r:embed="rId1"/>
          <a:stretch/>
        </p:blipFill>
        <p:spPr>
          <a:xfrm>
            <a:off x="4714920" y="43052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7" descr="BD10301_"/>
          <p:cNvPicPr/>
          <p:nvPr/>
        </p:nvPicPr>
        <p:blipFill>
          <a:blip r:embed="rId2"/>
          <a:stretch/>
        </p:blipFill>
        <p:spPr>
          <a:xfrm>
            <a:off x="2928960" y="47862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8" descr="BD10301_"/>
          <p:cNvPicPr/>
          <p:nvPr/>
        </p:nvPicPr>
        <p:blipFill>
          <a:blip r:embed="rId3"/>
          <a:stretch/>
        </p:blipFill>
        <p:spPr>
          <a:xfrm>
            <a:off x="1619280" y="599616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9" descr="BD10301_"/>
          <p:cNvPicPr/>
          <p:nvPr/>
        </p:nvPicPr>
        <p:blipFill>
          <a:blip r:embed="rId4"/>
          <a:stretch/>
        </p:blipFill>
        <p:spPr>
          <a:xfrm>
            <a:off x="4210200" y="598644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0" descr="BD10301_"/>
          <p:cNvPicPr/>
          <p:nvPr/>
        </p:nvPicPr>
        <p:blipFill>
          <a:blip r:embed="rId5"/>
          <a:stretch/>
        </p:blipFill>
        <p:spPr>
          <a:xfrm>
            <a:off x="7010280" y="598644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2666880" y="4844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4876920" y="4205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1447920" y="6262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4114800" y="6186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7010280" y="6262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6"/>
          <p:cNvSpPr/>
          <p:nvPr/>
        </p:nvSpPr>
        <p:spPr>
          <a:xfrm flipH="1" flipV="1">
            <a:off x="2666520" y="457164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8" descr="BD10301_"/>
          <p:cNvPicPr/>
          <p:nvPr/>
        </p:nvPicPr>
        <p:blipFill>
          <a:blip r:embed="rId6"/>
          <a:stretch/>
        </p:blipFill>
        <p:spPr>
          <a:xfrm>
            <a:off x="6191280" y="48196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9"/>
          <p:cNvSpPr/>
          <p:nvPr/>
        </p:nvSpPr>
        <p:spPr>
          <a:xfrm>
            <a:off x="6324480" y="5043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4038480" y="5486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4495680" y="5486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2"/>
          <p:cNvSpPr/>
          <p:nvPr/>
        </p:nvSpPr>
        <p:spPr>
          <a:xfrm>
            <a:off x="3657600" y="5729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3"/>
          <p:cNvSpPr/>
          <p:nvPr/>
        </p:nvSpPr>
        <p:spPr>
          <a:xfrm>
            <a:off x="4876920" y="5729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4:08:14Z</dcterms:created>
  <dc:creator>Kim Yang</dc:creator>
  <dc:description/>
  <dc:language>en-US</dc:language>
  <cp:lastModifiedBy>beasoa</cp:lastModifiedBy>
  <dcterms:modified xsi:type="dcterms:W3CDTF">2012-08-31T15:51:13Z</dcterms:modified>
  <cp:revision>43</cp:revision>
  <dc:subject/>
  <dc:title>Slide 1</dc:title>
</cp:coreProperties>
</file>